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CF3A5-6EEB-4B68-8AF6-CAE34FF85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5367F-D301-42C5-8813-9224B383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A40B0-A1BF-4FFF-9805-6C773A3F7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BF854-1EC3-419A-BF56-3D2D44B0D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59338-FF93-44E5-A8AD-430832FC7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01CCA-608B-47F4-B0F9-DAA68633C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A6925-6C5F-4ED4-8D28-FD06BDD5A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A28AE-B569-420A-BC0E-167717665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5CE8A-63E2-490C-98F3-5DEA5BEBD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C297C-78A8-4841-8190-2AF915CD4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CAD54-BE06-453D-9DDE-C98E95EEA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7712A-3941-4117-B926-A66F1C150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49197-4A0D-4885-8671-5AF5D1935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C870A-EC03-4B9A-9D08-7AFEC513D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2CCF2-D6CF-4212-A122-9B9868F19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A0147-3918-4328-9AA0-64DEEF02F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3B1F2-81C3-4E57-BCB2-C20A62162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0CD612-CD04-4B24-87D6-93B54A0C73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566DA-45EF-44D5-B7D2-813B02B31E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82FDC5-80F7-4024-9DC1-E0B3835BE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1A66C6-1B03-49EA-8EC5-113283B2E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07E4D6-2701-47E6-8E44-9873670A6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6E446-4F6C-44BA-8C4A-A227AAE53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4EF22-8D3C-4D40-ACB6-C2BCDC8B8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35D38-F490-4C19-A255-7F9935ACF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228D9-A470-41C1-B207-38BF38763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F9DE9-A37F-4775-BC7D-9AC71AE0B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5FAE77-8B02-4233-BE38-0295DFB99C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166B4E-4FCD-4356-A19E-ED86D3580E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A8BD34-DBBF-41D1-8BC5-7FB40C2E39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60637A-687C-4580-8B0F-E82D6C6B18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3D45E7-2107-4E8D-A99E-F58634B5BF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64757B-5AE2-4DAE-A44B-875DFD1C1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A1E31-E7D5-4618-B1BE-84723B68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0E73CE-97DD-4B3B-9943-666C22B3A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4B2DB9-947B-4F3C-B451-C31C97ABBB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BD9A6E-2748-4A40-8AFD-B4F3A490A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DAB59-89A5-4894-9C6B-1513CC356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9FE0E-EFC1-47A8-BE4F-53E8F11BC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14C06A-9856-4032-B7BD-953DC4BD3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26D64-50A0-4157-A6DB-F5CD7564B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53AA2D-CDAB-427B-86CF-0433910D46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E19620-AF9F-4A15-AAEB-0CF65DAF56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8FABE-7F5C-4BE5-B185-ED205C1C3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1C46F-99E3-4FA8-9673-EEF889D4D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D8837-FE49-457C-A8AA-2A81553C9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B2D5E-A9EB-4A8E-81A1-459CD8214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A610-8167-4E22-8EB5-5E70A2A6A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7369-9BB9-49CE-9A27-BF09AAD4C5A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Freeform 12"/>
            <p:cNvGrpSpPr/>
            <p:nvPr/>
          </p:nvGrpSpPr>
          <p:grpSpPr>
            <a:xfrm>
              <a:off x="-19080" y="248040"/>
              <a:ext cx="9181080" cy="565200"/>
              <a:chOff x="-19080" y="248040"/>
              <a:chExt cx="9181080" cy="565200"/>
            </a:xfrm>
          </p:grpSpPr>
          <p:pic>
            <p:nvPicPr>
              <p:cNvPr id="58" name="Freeform 12" descr=""/>
              <p:cNvPicPr/>
              <p:nvPr/>
            </p:nvPicPr>
            <p:blipFill>
              <a:blip r:embed="rId4"/>
              <a:stretch/>
            </p:blipFill>
            <p:spPr>
              <a:xfrm>
                <a:off x="-3240" y="248040"/>
                <a:ext cx="9165240" cy="565200"/>
              </a:xfrm>
              <a:prstGeom prst="rect">
                <a:avLst/>
              </a:prstGeom>
              <a:ln w="0">
                <a:noFill/>
              </a:ln>
            </p:spPr>
          </p:pic>
          <p:sp>
            <p:nvSpPr>
              <p:cNvPr id="59"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49415-BAA7-44FB-9FC6-97AF113C465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Freeform 12"/>
            <p:cNvGrpSpPr/>
            <p:nvPr/>
          </p:nvGrpSpPr>
          <p:grpSpPr>
            <a:xfrm>
              <a:off x="-19080" y="248040"/>
              <a:ext cx="9181080" cy="565200"/>
              <a:chOff x="-19080" y="248040"/>
              <a:chExt cx="9181080" cy="565200"/>
            </a:xfrm>
          </p:grpSpPr>
          <p:pic>
            <p:nvPicPr>
              <p:cNvPr id="109" name="Freeform 12" descr=""/>
              <p:cNvPicPr/>
              <p:nvPr/>
            </p:nvPicPr>
            <p:blipFill>
              <a:blip r:embed="rId4"/>
              <a:stretch/>
            </p:blipFill>
            <p:spPr>
              <a:xfrm>
                <a:off x="-3240" y="248040"/>
                <a:ext cx="9165240" cy="565200"/>
              </a:xfrm>
              <a:prstGeom prst="rect">
                <a:avLst/>
              </a:prstGeom>
              <a:ln w="0">
                <a:noFill/>
              </a:ln>
            </p:spPr>
          </p:pic>
          <p:sp>
            <p:nvSpPr>
              <p:cNvPr id="110"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AF1F-EB4B-4EBE-81B8-F93AF3320AF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4"/>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Right Triangle 1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6"/>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8"/>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3B20-2E06-4AA6-B63A-D0F311E8793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a:t>
            </a:r>
            <a:r>
              <a:rPr b="0" lang="sr-RS" sz="2800" spc="-1" strike="noStrike">
                <a:solidFill>
                  <a:srgbClr val="04617b"/>
                </a:solidFill>
                <a:latin typeface="Calibri"/>
              </a:rPr>
              <a:t>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мет: Енглески језик</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авач: Душица Лазић</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ion:</a:t>
            </a:r>
            <a:endParaRPr b="0" lang="en-US" sz="2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nstantia"/>
              </a:rPr>
              <a:t>Превести краћи текст на енглески језик.</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19"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1"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3"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eriodontics</a:t>
            </a:r>
            <a:endParaRPr b="0" lang="en-US" sz="28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iodontics or periodontology, is the branch of dentistry which studies the supporting structures of teeth, known as the periodontium, which includes the gingival, alveolar bone, cementum, and the periodontal ligaments. The word comes from the Greek words peri meaning around and odons meaning tooth. Literally taken, it means study of that which is around the tooth. Periodontitis is an inflammation of the periodontium, or one of the four tissues that support the teeth in the mouth: the gingiva, or gum tissue, the cementum, or outer layer  of the roots of teeth, the alveolar bone, or the bony sockets into which the teeth are anchored, the periodontal ligaments, which are the connective tissue fibers that connect the cementum and the gingiva to the alveolar bone.</a:t>
            </a: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est of the lesson can be found in the textbook “English in Dentistry” by Natasa Milosavljevi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iodontium</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ngiv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ementum</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fe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rta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b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elati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snomer</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MPORTANCE OF PERIODONTIC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GNS  AND SYMPTOMS OF PERIODONTITI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VENTION AND TREATMENT OF PERIODONTITI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List all words that can be used to describe the following:</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munit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ndrom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us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mpl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r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xtur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nsitiv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Suggest synonyms for each of the following words:</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osur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gh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stakenl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ach</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eas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res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rmane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icienc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l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hoose one of the negative prefixes (un, in im) to form a word with the opposite meaning</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asur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v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bi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re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p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orta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avor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arab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Use Present or Past Participle in the following sentences:</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we arrived, we saw the doctor (examine) the patie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ish) his check-up, he left the hospita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e will send you an (illustrate) journa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nter) at last, the sick man started to compla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 met some (lead) scientists at this congres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man had a (distinguish) career in the field of genetic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the verbs in brackets into the correct tense:</a:t>
            </a:r>
            <a:endParaRPr b="0" lang="en-US" sz="28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expected that you (finish) your work before you came here.</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 is sure that he (write) the report for the meeting by seven o’clock.</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s time next month she (have) an interview with one very important person.</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is friend wants to see what sort of stories he (read) now.</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 (look for) this interesting books for weeks.</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e (talk) with her sister, but she stopped as he (come) in.</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were very tired; they (study) for that exam for four hours.</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You can’t do that exercise as well as you (do) it up to now.</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get) all the information we (want) when we were at the congress.</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e (find) it difficult to repeat all these reports every week.</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8T22:38:24Z</dcterms:modified>
  <cp:revision>25</cp:revision>
  <dc:subject/>
  <dc:title>Slide 1</dc:title>
</cp:coreProperties>
</file>